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AE2A-B760-4663-812D-F14D7373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47B4-26EB-471F-908F-DD68C1F8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B5E-B215-45B4-9895-04950C6E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42A-B262-46A6-8DB7-B3DB07DC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96EF-3CE9-44E6-8D7A-C4295107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5DC0-1C8E-4603-BBF9-28763400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5591-B652-41E5-AC41-E0540870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4DCE-EB7F-4239-88D9-9D1B16E3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E9C-8D3E-40B4-A13D-E4516399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8F90E-1EAB-46C0-862A-DEA2191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4A14-6E37-4E3D-9161-0C504B5F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AED5-618D-48D4-86C6-2CF440C1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75153-9C19-4D7F-908C-AD790282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DD28-2A2C-4E45-9529-F797CBBA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2C3B-17B4-495B-A8CA-5386375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D856-E622-4AD9-BF50-BEF180A6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020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4920" y="289512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8951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57020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4920" y="3810960"/>
            <a:ext cx="1594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7DF9-AE7B-41B2-9B15-19E38F15B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594D-F8F9-4203-A8BA-47A37E99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3646-0AD1-4E11-8889-AA35A117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42DB-64A8-486B-891C-961E1F9B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7920" y="1218960"/>
            <a:ext cx="63244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7032-EEAC-4CEC-A40C-759C4EDD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F76-21BF-44BC-8DD7-EDCDA9ED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433480" y="381096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0B59-E26B-4EFA-A04A-0EE76400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9512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3480" y="2895120"/>
            <a:ext cx="2417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895120" y="3810960"/>
            <a:ext cx="4953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053-C0F4-400F-A27A-1671C10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720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00200" y="60948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4008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009-131A-47C7-9C74-790234FC8EE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5105160" y="6400800"/>
            <a:ext cx="289548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1520" y="6400800"/>
            <a:ext cx="30492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9DCA-C9EF-4E0D-8614-ACA29D8CDB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45720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400800"/>
            <a:ext cx="1676520" cy="4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DF10-208D-46BA-9561-A0A2C5069A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510516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8381520" y="6399360"/>
            <a:ext cx="30492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C8A3-9F3A-4496-9888-C17A60A3A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Hewlett Packard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62485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66ffff"/>
              </a:buClr>
              <a:buSzPct val="6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553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00400" y="2361960"/>
            <a:ext cx="51055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rief His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tory of HP print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al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rust in its peo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har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oposed objectiv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WOT Analy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5638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Brief Histor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56386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eading Global Provid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umber of employe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ve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ill Hewlett- Dave Packa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553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Story of HP Printer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00400" y="2361960"/>
            <a:ext cx="510552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960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uter &amp; Periph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eveloping laser prin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serje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k-j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inkj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37400" indent="-4374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kj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5638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alit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4240" y="3047760"/>
            <a:ext cx="47242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lvl="1" marL="660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mit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o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934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Management by Objectives &amp; Involvemen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76360" y="2895480"/>
            <a:ext cx="510516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rust in 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har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7057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roposed Objective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00400" y="2209680"/>
            <a:ext cx="51055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 original objectiv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f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sto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ield of Inter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mploy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rganis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itize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WOT Analysis 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971440" y="22096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415800" indent="-41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trength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re focused &amp; cohesiv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ore coordinat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action to market chan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P is u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igh quality brand na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15800" indent="-41580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anage allian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WOT Analysi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Weakn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liance on suppli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Increasing arroga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hin staffing &amp; employee burn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WOT Analysi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742840" y="22856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hrea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ggressive competito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petes on technology, performance, price, quality, reliability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P required to develop new produ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SWOT Analysi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pportunit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eize opportunities in producing stylish “colour” print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Compan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685440"/>
            <a:ext cx="6782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440" y="220932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istory of the indus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ey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Key Mark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Generic Strate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ustry Play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dustry Life Cyc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petitive Streng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echnology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71440" y="26668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ominant Produc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duct Life Cyc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duct Strateg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Technological Tren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ominant Product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971440" y="24382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Garamond"/>
              </a:rPr>
              <a:t>LaserJet 1100 &amp; 1100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Fast printing with no warm-up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xpandable mem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ltraPrecise toner cartrid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04920" y="4114800"/>
            <a:ext cx="2361960" cy="2362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duct Life Cycl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971440" y="22856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Garamond"/>
              </a:rPr>
              <a:t>6 gener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LaserJet 5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HP PCL 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Garamond"/>
              </a:rPr>
              <a:t>LaserJet 6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olution Enhancement technology (R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oduct Strateg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742840" y="23619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duction of printer pr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dded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nstant upgra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age of VHDL enables flexibility, strong bargaining power and steady flow of quality silic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838080"/>
            <a:ext cx="6858000" cy="11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Technological Trend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ncreased interest in the use of network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Ability to select and print only the information needed at the momen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Internet: Printing color web pag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Printing and customization of phot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Produc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47920" y="121932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Conclu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396252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9933"/>
                </a:solidFill>
                <a:latin typeface="Comic Sans MS"/>
              </a:rPr>
              <a:t>Have a nice day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761760"/>
            <a:ext cx="65530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istory of Industry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42840" y="23619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ot Matrix, Inkjet, Laser J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ome Publishing using Inkjet and Laser J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0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Key Technologi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743200" y="25142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Host-Based Printer Archite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raphics Device Interf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inter Market Technolog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Key Market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666520" y="2514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33"/>
                </a:solidFill>
                <a:latin typeface="Garamond"/>
              </a:rPr>
              <a:t>America, Asia, Eur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merica: Led by U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Asia: Led by Ch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urope: Slow grow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Generic Strategie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2666880"/>
            <a:ext cx="6172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stomers are the foc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reate differenti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ke prof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utsource for suppli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ndustry Players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251424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ufactur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stom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Suppli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Retail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2388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Industry Life Cycle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8640" y="2666880"/>
            <a:ext cx="4343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Dot Matri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Inkje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349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ase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67816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ompetitive Strengths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76720" y="22860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ival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ew Entr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bstitu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Bargaining power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ppl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stom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ndustry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logo3" descr=""/>
          <p:cNvPicPr/>
          <p:nvPr/>
        </p:nvPicPr>
        <p:blipFill>
          <a:blip r:embed="rId1"/>
          <a:stretch/>
        </p:blipFill>
        <p:spPr>
          <a:xfrm>
            <a:off x="1295280" y="2743200"/>
            <a:ext cx="1209960" cy="868320"/>
          </a:xfrm>
          <a:prstGeom prst="rect">
            <a:avLst/>
          </a:prstGeom>
          <a:ln w="0">
            <a:noFill/>
          </a:ln>
        </p:spPr>
      </p:pic>
    </p:spTree>
  </p:cSld>
  <p:transition advTm="0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1T06:46:04Z</dcterms:created>
  <dc:creator>Tan Wee Siang</dc:creator>
  <dc:description/>
  <dc:language>en-US</dc:language>
  <cp:lastModifiedBy>Martin</cp:lastModifiedBy>
  <dcterms:modified xsi:type="dcterms:W3CDTF">2000-04-03T04:42:38Z</dcterms:modified>
  <cp:revision>32</cp:revision>
  <dc:subject/>
  <dc:title>Hewlett Packard</dc:title>
</cp:coreProperties>
</file>